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C41-EC1C-4914-8C7C-7002B103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FB9-99CA-408B-9803-80E03129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C33-2B82-4053-9AC3-2E5836CC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6D6-77C6-4D9E-BA3B-D6AFF678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085-FA99-457F-98CC-FD9D1616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1CE-0E9E-42C5-ACC1-8E24233B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0AB-F2C1-4B1D-8FFC-A95EEFD0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BD5-3CA3-437C-8A9F-7C8E2D1C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999-FDD3-45C4-BEBC-79CAA429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BAE-4E8D-470C-A445-FF78151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8BD-9EB8-418A-B764-7751C46D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CCA-CBE2-45DB-8265-76111D21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9559-7369-4CAD-BB14-4B109299E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images.google.co.uk/imgres?imgurl=https://nms-mathletics.wikispaces.com/file/view/pi.png/33194495/pi.png&amp;imgrefurl=https://nms-mathletics.wikispaces.com/stephenj&amp;usg=__L5Q4qC-7hmFYJw5ooFz25gXlaaw=&amp;h=600&amp;w=600&amp;sz=14&amp;hl=en&amp;start=7&amp;itbs=1&amp;tbnid=hf8lm3znBV7Y3M:&amp;tbnh=135&amp;tbnw=135&amp;prev=/images%3Fq%3Dpi%26hl%3Den%26gbv%3D2%26tbs%3Disch:1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ening ceremon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ouise Montgom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 Rob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79640" y="1197000"/>
            <a:ext cx="4824720" cy="2878920"/>
            <a:chOff x="1979640" y="1197000"/>
            <a:chExt cx="4824720" cy="2878920"/>
          </a:xfrm>
        </p:grpSpPr>
        <p:grpSp>
          <p:nvGrpSpPr>
            <p:cNvPr id="45" name=""/>
            <p:cNvGrpSpPr/>
            <p:nvPr/>
          </p:nvGrpSpPr>
          <p:grpSpPr>
            <a:xfrm>
              <a:off x="1979640" y="1896840"/>
              <a:ext cx="4824720" cy="2179080"/>
              <a:chOff x="1979640" y="1896840"/>
              <a:chExt cx="4824720" cy="2179080"/>
            </a:xfrm>
          </p:grpSpPr>
          <p:sp>
            <p:nvSpPr>
              <p:cNvPr id="46" name=""/>
              <p:cNvSpPr/>
              <p:nvPr/>
            </p:nvSpPr>
            <p:spPr>
              <a:xfrm>
                <a:off x="4585680" y="1896840"/>
                <a:ext cx="2218680" cy="2179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979640" y="1896840"/>
                <a:ext cx="2218680" cy="2179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137040" y="1896840"/>
                <a:ext cx="2605680" cy="2179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 txBox="1"/>
            <p:nvPr/>
          </p:nvSpPr>
          <p:spPr>
            <a:xfrm>
              <a:off x="3818160" y="1197000"/>
              <a:ext cx="901440" cy="61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0m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3281400" y="2753280"/>
              <a:ext cx="830520" cy="61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70m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55640" y="4292640"/>
            <a:ext cx="79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m*90m= 6300               area of square part of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/2= 35                            find the radi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=3848.451001         formula to find the area of the semi-circular parts of the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300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5.43615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0148.451    total area of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156280"/>
            <a:ext cx="2890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1125360"/>
            <a:ext cx="896472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es everyone will fit with 2 people per square metr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92360" y="3429000"/>
            <a:ext cx="513072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space to spa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941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2 people per square metre you would have 19096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5:14Z</dcterms:created>
  <dc:creator>montgomeryl</dc:creator>
  <dc:description/>
  <dc:language>en-US</dc:language>
  <cp:lastModifiedBy>montgomeryl</cp:lastModifiedBy>
  <dcterms:modified xsi:type="dcterms:W3CDTF">2010-03-17T09:56:05Z</dcterms:modified>
  <cp:revision>2</cp:revision>
  <dc:subject/>
  <dc:title>The opening ceremony problem</dc:title>
</cp:coreProperties>
</file>